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10.gif" ContentType="image/gif"/>
  <Override PartName="/ppt/media/image13.png" ContentType="image/png"/>
  <Override PartName="/ppt/media/image8.jpeg" ContentType="image/jpeg"/>
  <Override PartName="/ppt/media/image2.gif" ContentType="image/gif"/>
  <Override PartName="/ppt/media/image19.jpeg" ContentType="image/jpeg"/>
  <Override PartName="/ppt/media/image1.jpeg" ContentType="image/jpeg"/>
  <Override PartName="/ppt/media/image4.wmf" ContentType="image/x-wmf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7.jpeg" ContentType="image/jpeg"/>
  <Override PartName="/ppt/media/image3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C918-4735-456C-88A5-B99B8542F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100C-86AB-40CD-A615-D2B7545CC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count (article for the school magazi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nformation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Procedure (How to Make Muffins, How to play a game) Recount (article for the school magazi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nformation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Procedure (How to Make Muffins, How to play a ga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ransactional Texts (self introduction letters, invitations, acceptance cards/notes, thank you cards and emai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Book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omparative essayRecount (excursion to Werribee Zoo, City Landmarks, Snakebust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Narrative (Role Play, ‘Cat in the Hat’ perform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 nformation Report (Oral presentation on reptiles and marine lif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Procedure (How to play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A819-D7E7-4DE3-87B9-FACB80E51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3FCA-48CC-4C6D-AB46-A02C62E72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F7B8-2C03-4919-BA42-BB6E0ED77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E925-4ECE-4AAD-9A32-77751DCF2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E5EE-03D6-40A9-A225-9BC9CA7E4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ABFD-FAF2-490C-B459-D441BF00C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55F2-CD85-43B9-BCAC-B64BF6D04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8C08-9900-4153-A72A-BC1EA1DCA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0A08-E2D9-4961-B651-D41BBFE09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3B5C-B6A7-4308-9D3C-DCC3001EE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DBD0-F085-4088-A571-4CD233128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2631-1B0B-4CB0-ADDC-F40918C4B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39960" y="71280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2960" y="4754520"/>
            <a:ext cx="501624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5999-BF55-437A-94CD-AB7D0F883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58D9-6503-4B4A-8112-86F26C8D8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39960" y="71280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2960" y="4754520"/>
            <a:ext cx="501624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16DA-D342-4268-AA53-FA06206F4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A20E-DD8E-430F-B7D9-BFC5A2B20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2020-0553-4607-86B1-6FD92F4BF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C625-1B1F-422F-8F0D-ADDA26A34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3331-B81A-4A78-B630-EEF76E6A4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A79B-8BBF-4DE6-8CD5-D8FD1F11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7AD8-14D7-4DE7-B386-4FFE59C30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5C7A-A679-4482-998A-2E15D6D71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8A57-9854-43D9-AB88-E9BA25EB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8F25-0EE6-4383-8AFA-CFB578D6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749C-172E-4043-80F5-382E0EF1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6058-F49A-407F-BB94-0FE7A0CA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8322-B630-4B2C-8135-A695EA89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DB50-8877-4FF5-9B49-C18C3F4E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01D1-EF55-4FDB-9E0B-7AC8A37B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D72A-5FE2-4C9C-A28D-DECFA75B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1216-AAB7-4485-BEA3-2E972BD55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mailto:gvozdenko.inna.v@edumail.vic.gov.a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gi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837720" y="41144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Inna Gvozdenko, P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Patricia Ciuffete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homepage_kids_running"/>
          <p:cNvPicPr/>
          <p:nvPr/>
        </p:nvPicPr>
        <p:blipFill>
          <a:blip r:embed="rId1"/>
          <a:stretch/>
        </p:blipFill>
        <p:spPr>
          <a:xfrm>
            <a:off x="2209680" y="457200"/>
            <a:ext cx="6705720" cy="19051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685800" y="2819520"/>
            <a:ext cx="754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TEACHING WRITTEN GEN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TO NEW ARRIV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MMAG00218_0000[1]"/>
          <p:cNvPicPr/>
          <p:nvPr/>
        </p:nvPicPr>
        <p:blipFill>
          <a:blip r:embed="rId2"/>
          <a:stretch/>
        </p:blipFill>
        <p:spPr>
          <a:xfrm>
            <a:off x="7543800" y="2971800"/>
            <a:ext cx="1181160" cy="905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Object 7"/>
          <p:cNvGraphicFramePr/>
          <p:nvPr/>
        </p:nvGraphicFramePr>
        <p:xfrm>
          <a:off x="228600" y="457200"/>
          <a:ext cx="182880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57200"/>
                    <a:ext cx="18288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TextBox 6"/>
          <p:cNvSpPr/>
          <p:nvPr/>
        </p:nvSpPr>
        <p:spPr>
          <a:xfrm>
            <a:off x="533520" y="586728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ESL Conference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ransforming ESL pedagogy: </a:t>
            </a:r>
            <a:r>
              <a:rPr b="1" lang="en-AU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ducating for </a:t>
            </a:r>
            <a:r>
              <a:rPr b="1" lang="en-AU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uccess in </a:t>
            </a:r>
            <a:r>
              <a:rPr b="1" lang="en-AU" sz="18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Key Activiti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04920" y="1066680"/>
          <a:ext cx="8458200" cy="5594400"/>
        </p:xfrm>
        <a:graphic>
          <a:graphicData uri="http://schemas.openxmlformats.org/drawingml/2006/table">
            <a:tbl>
              <a:tblPr/>
              <a:tblGrid>
                <a:gridCol w="914400"/>
                <a:gridCol w="7543800"/>
              </a:tblGrid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ing activities/experie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  for learning , letters and invitations  deliv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et buddies, play “The Cat in the Hat”, shared reading in small groups songs performed by  stu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ok report writing, information reports, excur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w the movie “The Cat in the Hat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ing  a comparative essay and  a persuasive letter to the editor, information repo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l oral presen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ursion “Snake busters”, games s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muffins,  morning tea s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posters about  students’ learning experiences (Part 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 posters about  students’ learning experiences (Part 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 “Thank you” cards and  presentations of the term  activiti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8BA7-9AAD-4214-B4BD-8635B5EAC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Types Targeted in 10 Week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ing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1600200"/>
          <a:ext cx="8229600" cy="42512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01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ten  tex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l tex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1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 Re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actional Texts (e.g. Letter writing, invitati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 Re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actional Tex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ok re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ative ess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 Report (Oral presentation on reptil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(How to play …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u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rr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 Re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actional tex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of 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2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E045-2333-4B25-8993-0B5627AE8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Selection of Text Types- Justification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Prim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urriculum expec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ext type linked to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tudent inter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ge appropriat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econd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urriculum expec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ext type linked to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egotiated curriculum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se of  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082B-CD83-4FB5-B467-1130176AA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 Negotiated Approach in the ESL Classroom (Breen, M. &amp; Littlejohn, A.,20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457200" y="1471680"/>
            <a:ext cx="807732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Issues opened for negoti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General enquiry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: How do you feel in a new class? What are your value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Purpose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: What are your short/long term goals? What are your expectations of the clas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eacher/student role expectation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: What is your role in class? What do you think the teacher’s role i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: What topics would you like to study? What skills do you want to develop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Learning to learn: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Do you know your learning style? How do you learn best? What strategies do you use in learning English? What activities do you like/dislike? Where would you like to go on excursion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: How would you like to be assessed? What could be the outcome of the work? What have you learned? Have you achieved your personal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5969-4F35-4352-A715-964E9C868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Outcomes of the negotiation process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76320" y="914400"/>
          <a:ext cx="9144000" cy="5867280"/>
        </p:xfrm>
        <a:graphic>
          <a:graphicData uri="http://schemas.openxmlformats.org/drawingml/2006/table">
            <a:tbl>
              <a:tblPr/>
              <a:tblGrid>
                <a:gridCol w="2327040"/>
                <a:gridCol w="2327400"/>
                <a:gridCol w="2473200"/>
                <a:gridCol w="2016360"/>
              </a:tblGrid>
              <a:tr h="586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S OF INTER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ralia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s of different countri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ve and funny boo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eb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mar: Present, Past and Future ten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ctu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e vo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graph wr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C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speaking and list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curricular activ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 new wo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 about the wor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a good position in clas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 brave and don’t be afraid of peo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z , excur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ching news &amp; mov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ing 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ing sto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mar exerci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 work, dr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ing, coo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ening to mus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ing ga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ing so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 boo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mar worksheets &amp; te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br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y writing Letter wr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a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c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ening 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l presen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CDC6-61CC-4E2E-95FA-DC6CDDAE1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ext type: Information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3048120" y="1219320"/>
            <a:ext cx="3886200" cy="1739880"/>
          </a:xfrm>
          <a:prstGeom prst="rect">
            <a:avLst/>
          </a:prstGeom>
          <a:solidFill>
            <a:srgbClr val="2d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Arial"/>
              </a:rPr>
              <a:t>Building  background  knowled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ad books about t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xplicit vocab buil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atched DV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dependent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cursion/excur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5334120" y="3352680"/>
            <a:ext cx="3504960" cy="1465560"/>
          </a:xfrm>
          <a:prstGeom prst="rect">
            <a:avLst/>
          </a:prstGeom>
          <a:solidFill>
            <a:srgbClr val="2d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Arial"/>
              </a:rPr>
              <a:t>Mod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econstruction of  exemplar information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(e.g. cloze activit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3048120" y="5657760"/>
            <a:ext cx="3733560" cy="1191240"/>
          </a:xfrm>
          <a:prstGeom prst="rect">
            <a:avLst/>
          </a:prstGeom>
          <a:solidFill>
            <a:srgbClr val="2d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Arial"/>
              </a:rPr>
              <a:t>Joint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llaborative wr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f information report  (model the writing pro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228600" y="3048120"/>
            <a:ext cx="3352680" cy="2288520"/>
          </a:xfrm>
          <a:prstGeom prst="rect">
            <a:avLst/>
          </a:prstGeom>
          <a:solidFill>
            <a:srgbClr val="2d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Arial"/>
              </a:rPr>
              <a:t>Independent/small group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udents independently construct text with minimum teacher sup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(Planning, drafting, editing, revising and publish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urved Left Arrow 8"/>
          <p:cNvSpPr/>
          <p:nvPr/>
        </p:nvSpPr>
        <p:spPr>
          <a:xfrm>
            <a:off x="6934320" y="1905120"/>
            <a:ext cx="1447560" cy="1600200"/>
          </a:xfrm>
          <a:custGeom>
            <a:avLst/>
            <a:gdLst>
              <a:gd name="textAreaLeft" fmla="*/ 193680 w 1447560"/>
              <a:gd name="textAreaRight" fmla="*/ 1253880 w 1447560"/>
              <a:gd name="textAreaTop" fmla="*/ 264240 h 1600200"/>
              <a:gd name="textAreaBottom" fmla="*/ 11548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136" stAng="-5400000" swAng="5400000"/>
                <a:lnTo>
                  <a:pt x="21600" y="12021"/>
                </a:lnTo>
                <a:arcTo wR="21600" hR="7136" stAng="0" swAng="3119449"/>
                <a:lnTo>
                  <a:pt x="5400" y="21373"/>
                </a:lnTo>
                <a:lnTo>
                  <a:pt x="0" y="16715"/>
                </a:lnTo>
                <a:lnTo>
                  <a:pt x="5400" y="11602"/>
                </a:lnTo>
                <a:lnTo>
                  <a:pt x="5400" y="14045"/>
                </a:lnTo>
                <a:arcTo wR="21600" hR="7136" stAng="3119449" swAng="-2707704"/>
                <a:lnTo>
                  <a:pt x="20295" y="9579"/>
                </a:lnTo>
                <a:arcTo wR="21600" hR="7136" stAng="-411745" swAng="-4988255"/>
                <a:close/>
              </a:path>
              <a:path fill="darkenLess" w="21600" h="21600">
                <a:moveTo>
                  <a:pt x="0" y="0"/>
                </a:moveTo>
                <a:arcTo wR="21600" hR="7136" stAng="-5400000" swAng="5400000"/>
                <a:lnTo>
                  <a:pt x="21600" y="12021"/>
                </a:lnTo>
                <a:arcTo wR="21600" hR="7136" stAng="0" swAng="-411745"/>
                <a:lnTo>
                  <a:pt x="20295" y="9579"/>
                </a:lnTo>
                <a:arcTo wR="21600" hR="7136" stAng="-411745" swAng="-4988255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urved Left Arrow 9"/>
          <p:cNvSpPr/>
          <p:nvPr/>
        </p:nvSpPr>
        <p:spPr>
          <a:xfrm>
            <a:off x="6781680" y="4724280"/>
            <a:ext cx="1447920" cy="1600200"/>
          </a:xfrm>
          <a:custGeom>
            <a:avLst/>
            <a:gdLst>
              <a:gd name="textAreaLeft" fmla="*/ 193680 w 1447920"/>
              <a:gd name="textAreaRight" fmla="*/ 1254240 w 1447920"/>
              <a:gd name="textAreaTop" fmla="*/ 264240 h 1600200"/>
              <a:gd name="textAreaBottom" fmla="*/ 11548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136" stAng="-5400000" swAng="5400000"/>
                <a:lnTo>
                  <a:pt x="21600" y="12021"/>
                </a:lnTo>
                <a:arcTo wR="21600" hR="7136" stAng="0" swAng="3119449"/>
                <a:lnTo>
                  <a:pt x="5400" y="21373"/>
                </a:lnTo>
                <a:lnTo>
                  <a:pt x="0" y="16715"/>
                </a:lnTo>
                <a:lnTo>
                  <a:pt x="5400" y="11602"/>
                </a:lnTo>
                <a:lnTo>
                  <a:pt x="5400" y="14045"/>
                </a:lnTo>
                <a:arcTo wR="21600" hR="7136" stAng="3119449" swAng="-2707704"/>
                <a:lnTo>
                  <a:pt x="20295" y="9579"/>
                </a:lnTo>
                <a:arcTo wR="21600" hR="7136" stAng="-411745" swAng="-4988255"/>
                <a:close/>
              </a:path>
              <a:path fill="darkenLess" w="21600" h="21600">
                <a:moveTo>
                  <a:pt x="0" y="0"/>
                </a:moveTo>
                <a:arcTo wR="21600" hR="7136" stAng="-5400000" swAng="5400000"/>
                <a:lnTo>
                  <a:pt x="21600" y="12021"/>
                </a:lnTo>
                <a:arcTo wR="21600" hR="7136" stAng="0" swAng="-411745"/>
                <a:lnTo>
                  <a:pt x="20295" y="9579"/>
                </a:lnTo>
                <a:arcTo wR="21600" hR="7136" stAng="-411745" swAng="-4988255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urved Left Arrow 12"/>
          <p:cNvSpPr/>
          <p:nvPr/>
        </p:nvSpPr>
        <p:spPr>
          <a:xfrm rot="7564200">
            <a:off x="785880" y="5475960"/>
            <a:ext cx="1285920" cy="1468440"/>
          </a:xfrm>
          <a:custGeom>
            <a:avLst/>
            <a:gdLst>
              <a:gd name="textAreaLeft" fmla="*/ 172080 w 1285920"/>
              <a:gd name="textAreaRight" fmla="*/ 1113840 w 1285920"/>
              <a:gd name="textAreaTop" fmla="*/ 262800 h 1468440"/>
              <a:gd name="textAreaBottom" fmla="*/ 1110960 h 146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40" stAng="-5400000" swAng="5400000"/>
                <a:lnTo>
                  <a:pt x="21600" y="12469"/>
                </a:lnTo>
                <a:arcTo wR="21600" hR="7740" stAng="0" swAng="3253405"/>
                <a:lnTo>
                  <a:pt x="5400" y="21354"/>
                </a:lnTo>
                <a:lnTo>
                  <a:pt x="0" y="17844"/>
                </a:lnTo>
                <a:lnTo>
                  <a:pt x="5400" y="13841"/>
                </a:lnTo>
                <a:lnTo>
                  <a:pt x="5400" y="15233"/>
                </a:lnTo>
                <a:arcTo wR="21600" hR="7740" stAng="3253405" swAng="-2859915"/>
                <a:lnTo>
                  <a:pt x="20567" y="10104"/>
                </a:lnTo>
                <a:arcTo wR="21600" hR="7740" stAng="-393490" swAng="-5006510"/>
                <a:close/>
              </a:path>
              <a:path fill="darkenLess" w="21600" h="21600">
                <a:moveTo>
                  <a:pt x="0" y="0"/>
                </a:moveTo>
                <a:arcTo wR="21600" hR="7740" stAng="-5400000" swAng="5400000"/>
                <a:lnTo>
                  <a:pt x="21600" y="12469"/>
                </a:lnTo>
                <a:arcTo wR="21600" hR="7740" stAng="0" swAng="-393490"/>
                <a:lnTo>
                  <a:pt x="20567" y="10104"/>
                </a:lnTo>
                <a:arcTo wR="21600" hR="7740" stAng="-393490" swAng="-500651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D275-D613-4C64-B8AE-6A53A15A3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Text Deconstruction Activities at the Modelling S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ocodi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codiles are rept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codiles have hard scales and sharp tee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codiles eat small an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rocodiles live in fresh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codiles are dangero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00B3-CDDB-40B6-9390-1A1C35856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Text Deconstruction Activities </a:t>
            </a:r>
            <a:br>
              <a:rPr sz="3600"/>
            </a:b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at the Modelling Stag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066680" y="1752480"/>
          <a:ext cx="5143680" cy="571320"/>
        </p:xfrm>
        <a:graphic>
          <a:graphicData uri="http://schemas.openxmlformats.org/drawingml/2006/table">
            <a:tbl>
              <a:tblPr/>
              <a:tblGrid>
                <a:gridCol w="5143680"/>
              </a:tblGrid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icBold"/>
                          <a:ea typeface="Times New Roman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Rectangle 1"/>
          <p:cNvSpPr/>
          <p:nvPr/>
        </p:nvSpPr>
        <p:spPr>
          <a:xfrm>
            <a:off x="457200" y="4345920"/>
            <a:ext cx="678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icBold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icBold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icBold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1047960" y="2438280"/>
            <a:ext cx="33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icBold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icBold"/>
                <a:ea typeface="Times New Roman"/>
              </a:rPr>
              <a:t>What are crocodi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66680" y="3048120"/>
          <a:ext cx="5143680" cy="571320"/>
        </p:xfrm>
        <a:graphic>
          <a:graphicData uri="http://schemas.openxmlformats.org/drawingml/2006/table">
            <a:tbl>
              <a:tblPr/>
              <a:tblGrid>
                <a:gridCol w="5143680"/>
              </a:tblGrid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1143000" y="4419720"/>
          <a:ext cx="5105520" cy="571320"/>
        </p:xfrm>
        <a:graphic>
          <a:graphicData uri="http://schemas.openxmlformats.org/drawingml/2006/table">
            <a:tbl>
              <a:tblPr/>
              <a:tblGrid>
                <a:gridCol w="5105520"/>
              </a:tblGrid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icBold"/>
                          <a:ea typeface="Times New Roman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12"/>
          <p:cNvSpPr/>
          <p:nvPr/>
        </p:nvSpPr>
        <p:spPr>
          <a:xfrm>
            <a:off x="1143000" y="53341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icBold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 you feel about </a:t>
            </a:r>
            <a:r>
              <a:rPr b="1" lang="en-US" sz="1400" spc="-1" strike="noStrike">
                <a:solidFill>
                  <a:srgbClr val="000000"/>
                </a:solidFill>
                <a:latin typeface="VicBold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codi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219320" y="5867280"/>
          <a:ext cx="5143320" cy="571680"/>
        </p:xfrm>
        <a:graphic>
          <a:graphicData uri="http://schemas.openxmlformats.org/drawingml/2006/table">
            <a:tbl>
              <a:tblPr/>
              <a:tblGrid>
                <a:gridCol w="5143320"/>
              </a:tblGrid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Rectangle 9"/>
          <p:cNvSpPr/>
          <p:nvPr/>
        </p:nvSpPr>
        <p:spPr>
          <a:xfrm>
            <a:off x="1066680" y="38862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 crocodiles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95920" y="129852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icBold"/>
                <a:ea typeface="Times New Roman"/>
              </a:rPr>
              <a:t>Tit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Text Deconstruction Activities</a:t>
            </a:r>
            <a:br>
              <a:rPr sz="3600"/>
            </a:b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 at the Modelling S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ocodi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codiles are rept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codiles have _______ scales and _______ tee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codiles eat _______ animals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codiles are dangero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E5BE-3B72-4C91-BA3B-34F097A59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"/>
          <p:cNvSpPr/>
          <p:nvPr/>
        </p:nvSpPr>
        <p:spPr>
          <a:xfrm flipH="1" flipV="1">
            <a:off x="1752480" y="4267080"/>
            <a:ext cx="13399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990720" y="4876920"/>
            <a:ext cx="1828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9"/>
          <p:cNvSpPr/>
          <p:nvPr/>
        </p:nvSpPr>
        <p:spPr>
          <a:xfrm>
            <a:off x="3352680" y="4876920"/>
            <a:ext cx="1828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0"/>
          <p:cNvSpPr/>
          <p:nvPr/>
        </p:nvSpPr>
        <p:spPr>
          <a:xfrm>
            <a:off x="5943600" y="4876920"/>
            <a:ext cx="1828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Use of ICT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or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ublis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ower Point Present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ovie M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teractive White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 set of laptops and class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m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j0300520"/>
          <p:cNvPicPr/>
          <p:nvPr/>
        </p:nvPicPr>
        <p:blipFill>
          <a:blip r:embed="rId1"/>
          <a:stretch/>
        </p:blipFill>
        <p:spPr>
          <a:xfrm>
            <a:off x="2971800" y="5334120"/>
            <a:ext cx="1447920" cy="12445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MCj04417230000[1]"/>
          <p:cNvPicPr/>
          <p:nvPr/>
        </p:nvPicPr>
        <p:blipFill>
          <a:blip r:embed="rId2"/>
          <a:stretch/>
        </p:blipFill>
        <p:spPr>
          <a:xfrm>
            <a:off x="5257800" y="30481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7116-659E-4F52-9AF7-0D2EDF47F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http://www.docudesk.com/deskPDF_Publisher_to_PDF.shtml"/>
          <p:cNvPicPr/>
          <p:nvPr/>
        </p:nvPicPr>
        <p:blipFill>
          <a:blip r:embed="rId3"/>
          <a:stretch/>
        </p:blipFill>
        <p:spPr>
          <a:xfrm>
            <a:off x="4038480" y="2209680"/>
            <a:ext cx="885960" cy="8953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The Microsoft Word Icon"/>
          <p:cNvPicPr/>
          <p:nvPr/>
        </p:nvPicPr>
        <p:blipFill>
          <a:blip r:embed="rId4"/>
          <a:stretch/>
        </p:blipFill>
        <p:spPr>
          <a:xfrm>
            <a:off x="2514600" y="19051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http://gizmodo.com/371247/elementary-schools-lego-club-makes-whiteboard-using-wii"/>
          <p:cNvPicPr/>
          <p:nvPr/>
        </p:nvPicPr>
        <p:blipFill>
          <a:blip r:embed="rId5"/>
          <a:stretch/>
        </p:blipFill>
        <p:spPr>
          <a:xfrm>
            <a:off x="7086600" y="3276720"/>
            <a:ext cx="165744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Outline of the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tudent pro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ocus on various genres (Why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aching cycle (What ?&amp; How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Key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Use of ICT (When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flection (So what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MCj04419020000[1]"/>
          <p:cNvPicPr/>
          <p:nvPr/>
        </p:nvPicPr>
        <p:blipFill>
          <a:blip r:embed="rId1"/>
          <a:stretch/>
        </p:blipFill>
        <p:spPr>
          <a:xfrm>
            <a:off x="6951600" y="4267080"/>
            <a:ext cx="2192400" cy="259092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EA55-8C08-4032-A77B-3F94DBEAC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Students’ Learning Outcom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gazine “16 A+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wo articles for the “Voices” magazine “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oster: “Learning about writing genres: Fun with 16 A and PT7”, displayed in the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sing a Movie Maker “Our learning journe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ioramas about reptiles and oral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ower Point Presentations “Marine Life”, “Snake busters”, “Werribee Zoo” and “City Landmark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lass displays in Room 28 and P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3EF8-84BF-4A3C-A4FF-5DF5BEE4C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tudents’ 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80880" y="1219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PRIMARY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Fatah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: “I liked learning about snakes and writing about snake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Adila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: “I tried my best to do a beautiful writing in my letter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ECONDARY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Fahmida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: “I learned how to write with good manners and respect, have good points and then present  the information in Power Point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Mohammad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: “The writing of essays  is good because I improve my English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B61C-05FA-47C0-A86C-2F67E1C49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04920" y="4495680"/>
          <a:ext cx="8001000" cy="1752840"/>
        </p:xfrm>
        <a:graphic>
          <a:graphicData uri="http://schemas.openxmlformats.org/drawingml/2006/table">
            <a:tbl>
              <a:tblPr/>
              <a:tblGrid>
                <a:gridCol w="2666880"/>
                <a:gridCol w="2666880"/>
                <a:gridCol w="266724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am confid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am very confid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 re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  and inv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ative essa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Teachers’ Reflections on Teaching Gen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igh level student interest in and motivation towards learning about different written gen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importance of not making assumptions about students’ background knowledge of particular gen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importance of building knowledge of targeted written genres (i.e. social purpose of different texts, audience, organisational structure, language featu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uilding understanding of the writing process (i.e. planning, drafting, editing, publication / presen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urriculum Cycle – the need to provide scaffolding through modelling, text deconstruction before expecting students to create targeted texts independent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ile many genres were covered during the 10 week teaching cycle, the following issues emerged for 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-  How much knowledge of each text type exposed and explicitly taught did the students reta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- How many text types should be covered in an 10 week program for secondary  and 6 month program for prima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405B-EB8D-4E91-8D79-D951EEA56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aking a giant po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228600" y="5334120"/>
            <a:ext cx="852480" cy="1170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1371600" y="52578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I learned how to plan and design a poster. All students were interested in making posters. Primary students gave us some advice. I liked to make posters because they made me happy and showed what we had don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" descr="nplsJuly2009 171"/>
          <p:cNvPicPr/>
          <p:nvPr/>
        </p:nvPicPr>
        <p:blipFill>
          <a:blip r:embed="rId2"/>
          <a:srcRect l="0" t="8889" r="0" b="11066"/>
          <a:stretch/>
        </p:blipFill>
        <p:spPr>
          <a:xfrm>
            <a:off x="6095880" y="2286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nplsJuly2009 180"/>
          <p:cNvPicPr/>
          <p:nvPr/>
        </p:nvPicPr>
        <p:blipFill>
          <a:blip r:embed="rId3">
            <a:lum bright="14000"/>
          </a:blip>
          <a:srcRect l="5003" t="52754" r="10292" b="0"/>
          <a:stretch/>
        </p:blipFill>
        <p:spPr>
          <a:xfrm>
            <a:off x="0" y="2743200"/>
            <a:ext cx="9144000" cy="2222640"/>
          </a:xfrm>
          <a:prstGeom prst="rect">
            <a:avLst/>
          </a:prstGeom>
          <a:ln w="0">
            <a:noFill/>
          </a:ln>
        </p:spPr>
      </p:pic>
      <p:sp>
        <p:nvSpPr>
          <p:cNvPr id="183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8CF3-52A3-4CE6-8AA4-26D0C18E6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5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685800" y="1295280"/>
            <a:ext cx="7620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reen, M.P. &amp; Littlejohn, A .(2000). (Eds.) </a:t>
            </a: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Classroom-decision making: negotiation and process syllabuses in practic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 Cambridge University 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ewianka, Beverly.(1990)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ploring How Texts W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Portsmouth, NH: Heineman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bbons, Pauline.  (2002)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caffolding Language Scaffolding Learning. Teaching Second Language Learners in the Mainstream Classro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Portsmouth, NH: Heineman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vozdenko, I. (2008). Exit students’ and  their ESL teachers ‘reflection on learning English at NPELS. Mainstream school vis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ammond, J. (2001). Scaffolding and language in Hammond, J. (ed.) </a:t>
            </a: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Scaffolding teaching and learning and literacy education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 NSW: primary English teaching Association.</a:t>
            </a:r>
            <a:r>
              <a:rPr b="1" i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Smith,A., Elley, N, Croft,D &amp;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iuffetelli, P. First Edition (2007). </a:t>
            </a: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PM  Writing Teachers' Guide Books (1, 2 &amp;3 ),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engage Learning ,South Melbour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85A1-7E9D-4C41-803E-09C948A64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ments and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ntact: </a:t>
            </a:r>
            <a:r>
              <a:rPr b="0" lang="en-A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vozdenko.inna.v@edumail.vic.gov.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iuffetelli.patricia.s@edumail.vic.gov.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C823-1208-4360-841F-2D05C5499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228600" y="1628640"/>
            <a:ext cx="8534520" cy="49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ELS is a P – 10   Victorian Government school. It has two campu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4 students: 127 primary and 187 secondar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der: males – 166, females – 14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nsive English language program for newly arrived refugees and   migr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um of two terms   tuition for students with age   equivalent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 to 4 terms tuition for stud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risk or with  disrupted schoo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5"/>
          <p:cNvSpPr txBox="1"/>
          <p:nvPr/>
        </p:nvSpPr>
        <p:spPr>
          <a:xfrm>
            <a:off x="1905120" y="990720"/>
            <a:ext cx="6553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Noble Park English Language Schoo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1" name="Picture 6" descr="MVC-003S"/>
          <p:cNvPicPr/>
          <p:nvPr/>
        </p:nvPicPr>
        <p:blipFill>
          <a:blip r:embed="rId1"/>
          <a:srcRect l="0" t="0" r="36962" b="0"/>
          <a:stretch/>
        </p:blipFill>
        <p:spPr>
          <a:xfrm>
            <a:off x="5638680" y="4229280"/>
            <a:ext cx="2210040" cy="262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Object 7"/>
          <p:cNvGraphicFramePr/>
          <p:nvPr/>
        </p:nvGraphicFramePr>
        <p:xfrm>
          <a:off x="380880" y="228600"/>
          <a:ext cx="1224000" cy="129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28600"/>
                    <a:ext cx="12240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 Box 8"/>
          <p:cNvSpPr/>
          <p:nvPr/>
        </p:nvSpPr>
        <p:spPr>
          <a:xfrm>
            <a:off x="304920" y="53341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1752480" y="38088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Teaching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231E-787C-44EB-8A7B-B144C2AF1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80880" y="1700280"/>
            <a:ext cx="8583840" cy="21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57% of our students and their families have previously lived in refugee camps. Some have attended schools t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any have experienced trauma, seen war and lost family members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tudents come from 32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3"/>
          <p:cNvSpPr txBox="1"/>
          <p:nvPr/>
        </p:nvSpPr>
        <p:spPr>
          <a:xfrm>
            <a:off x="1905120" y="457200"/>
            <a:ext cx="6553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Noble Park English Language Schoo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aphicFrame>
        <p:nvGraphicFramePr>
          <p:cNvPr id="69" name="Object 4"/>
          <p:cNvGraphicFramePr/>
          <p:nvPr/>
        </p:nvGraphicFramePr>
        <p:xfrm>
          <a:off x="380880" y="228600"/>
          <a:ext cx="122400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12240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Text Box 5"/>
          <p:cNvSpPr/>
          <p:nvPr/>
        </p:nvSpPr>
        <p:spPr>
          <a:xfrm>
            <a:off x="533520" y="41911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sudanschool copy"/>
          <p:cNvPicPr/>
          <p:nvPr/>
        </p:nvPicPr>
        <p:blipFill>
          <a:blip r:embed="rId3"/>
          <a:stretch/>
        </p:blipFill>
        <p:spPr>
          <a:xfrm>
            <a:off x="838080" y="3962520"/>
            <a:ext cx="3506760" cy="2286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DSC07446.JPG"/>
          <p:cNvPicPr/>
          <p:nvPr/>
        </p:nvPicPr>
        <p:blipFill>
          <a:blip r:embed="rId4"/>
          <a:stretch/>
        </p:blipFill>
        <p:spPr>
          <a:xfrm>
            <a:off x="4800600" y="396252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7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46E1-804B-4B28-BF8F-52C3A803B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457200" y="2819520"/>
            <a:ext cx="1371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untr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fug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2133720" y="2895480"/>
            <a:ext cx="129528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Vic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3657600" y="2895480"/>
            <a:ext cx="144792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Arial"/>
              </a:rPr>
              <a:t>Intens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Arial"/>
              </a:rPr>
              <a:t>ES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Arial"/>
              </a:rPr>
              <a:t>NPEL</a:t>
            </a: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5410080" y="2819520"/>
            <a:ext cx="144792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in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AFE/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7162920" y="2819520"/>
            <a:ext cx="144756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ustrali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1066680" y="533520"/>
            <a:ext cx="7010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Multiple Transition for new arriv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>
            <a:off x="182880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>
            <a:off x="3352680" y="3352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>
            <a:off x="518148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685800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0"/>
          <p:cNvSpPr/>
          <p:nvPr/>
        </p:nvSpPr>
        <p:spPr>
          <a:xfrm flipV="1">
            <a:off x="289548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1"/>
          <p:cNvSpPr/>
          <p:nvPr/>
        </p:nvSpPr>
        <p:spPr>
          <a:xfrm>
            <a:off x="28954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2"/>
          <p:cNvSpPr/>
          <p:nvPr/>
        </p:nvSpPr>
        <p:spPr>
          <a:xfrm>
            <a:off x="792468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3"/>
          <p:cNvSpPr/>
          <p:nvPr/>
        </p:nvSpPr>
        <p:spPr>
          <a:xfrm flipV="1">
            <a:off x="449568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4"/>
          <p:cNvSpPr/>
          <p:nvPr/>
        </p:nvSpPr>
        <p:spPr>
          <a:xfrm>
            <a:off x="762012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5"/>
          <p:cNvSpPr/>
          <p:nvPr/>
        </p:nvSpPr>
        <p:spPr>
          <a:xfrm flipV="1">
            <a:off x="61722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7"/>
          <p:cNvSpPr/>
          <p:nvPr/>
        </p:nvSpPr>
        <p:spPr>
          <a:xfrm>
            <a:off x="739152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kakuma camp kenya"/>
          <p:cNvPicPr/>
          <p:nvPr/>
        </p:nvPicPr>
        <p:blipFill>
          <a:blip r:embed="rId1"/>
          <a:stretch/>
        </p:blipFill>
        <p:spPr>
          <a:xfrm>
            <a:off x="0" y="4387680"/>
            <a:ext cx="2514600" cy="2470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2" descr="C:\Program Files\Microsoft Office\Media\CntCD1\ClipArt6\j0292116.wmf"/>
          <p:cNvPicPr/>
          <p:nvPr/>
        </p:nvPicPr>
        <p:blipFill>
          <a:blip r:embed="rId2"/>
          <a:stretch/>
        </p:blipFill>
        <p:spPr>
          <a:xfrm>
            <a:off x="5105520" y="4419720"/>
            <a:ext cx="2446200" cy="2438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3" descr="C:\Program Files\Microsoft Office\Media\CntCD1\Animated\j0283028.gif"/>
          <p:cNvPicPr/>
          <p:nvPr/>
        </p:nvPicPr>
        <p:blipFill>
          <a:blip r:embed="rId3"/>
          <a:stretch/>
        </p:blipFill>
        <p:spPr>
          <a:xfrm>
            <a:off x="6934320" y="4495680"/>
            <a:ext cx="2209680" cy="2362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4" descr=""/>
          <p:cNvPicPr/>
          <p:nvPr/>
        </p:nvPicPr>
        <p:blipFill>
          <a:blip r:embed="rId4"/>
          <a:stretch/>
        </p:blipFill>
        <p:spPr>
          <a:xfrm>
            <a:off x="2514600" y="4419720"/>
            <a:ext cx="2590920" cy="243828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2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732C-9920-435E-B245-0A30A8CCB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hy Focus on Written Genr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PELS  aims  “to improve student learning outcomes in the area of literacy and to further develop the curriculum focus on student oral and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written text production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across the school” (NPELS, Annual Implementation Plan, 2009 p. 2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rview data with the exited ESL students and their current ESL teachers has revealed that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NPELS students benefit from being exposed to and explicitly taught about a range of writing genres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at their early stage of English language learning       (Gvozdenko, I. 2008, Mainstream school visit report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ext types are culturally determined, therefore ESL learners are less likely to be familiar with the features  of the text types favoured in our cul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86FA-DE70-4A6B-BE45-502A78697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Genre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icit teaching about text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social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overall organisational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linguistic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B40A-34CA-464C-B343-312E3DC36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urriculum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ge 1: Building Knowledge of the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ge 2: Modeling the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ge 3: Joint Construction of the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ge 4: Independent Writing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bbons, P.  (2002). Derewianka, B.(199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5E61-BCCF-4DB0-8EF5-E5854CDDC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The genre-based Curriculum Cycle</a:t>
            </a:r>
            <a:br>
              <a:rPr sz="3600"/>
            </a:b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(Hammond, J., 200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2286000" y="1143000"/>
            <a:ext cx="5410080" cy="2044800"/>
          </a:xfrm>
          <a:prstGeom prst="rect">
            <a:avLst/>
          </a:prstGeom>
          <a:solidFill>
            <a:srgbClr val="ffff00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0000"/>
                </a:solidFill>
                <a:latin typeface="Arial"/>
              </a:rPr>
              <a:t>Building  the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eacher assumes leadership in developing relevant curriculum knowledge, understanding and language. Activities focus on curriculum, knowledge, language relevant to that curriculum knowledge, reading and learning how to r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4876920" y="3352680"/>
            <a:ext cx="3962160" cy="1496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0000"/>
                </a:solidFill>
                <a:latin typeface="Arial"/>
              </a:rPr>
              <a:t>Mod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eacher introduces a specific genre, guides students through explicit talk, demonstration, text de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2209680" y="5181480"/>
            <a:ext cx="4343400" cy="161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0000"/>
                </a:solidFill>
                <a:latin typeface="Arial"/>
              </a:rPr>
              <a:t>Joint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Teacher shares responsibility with students for writing in the genre through rehearsals, co-constructions, reconstru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457200" y="3352680"/>
            <a:ext cx="3733920" cy="1496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0000"/>
                </a:solidFill>
                <a:latin typeface="Arial"/>
              </a:rPr>
              <a:t>Independent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eacher withdraws support as far as possible as student exercises control over the focus gen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urved Left Arrow 7"/>
          <p:cNvSpPr/>
          <p:nvPr/>
        </p:nvSpPr>
        <p:spPr>
          <a:xfrm>
            <a:off x="7696080" y="1752480"/>
            <a:ext cx="1447920" cy="1600200"/>
          </a:xfrm>
          <a:custGeom>
            <a:avLst/>
            <a:gdLst>
              <a:gd name="textAreaLeft" fmla="*/ 193680 w 1447920"/>
              <a:gd name="textAreaRight" fmla="*/ 1254240 w 1447920"/>
              <a:gd name="textAreaTop" fmla="*/ 264240 h 1600200"/>
              <a:gd name="textAreaBottom" fmla="*/ 11548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136" stAng="-5400000" swAng="5400000"/>
                <a:lnTo>
                  <a:pt x="21600" y="12021"/>
                </a:lnTo>
                <a:arcTo wR="21600" hR="7136" stAng="0" swAng="3119449"/>
                <a:lnTo>
                  <a:pt x="5400" y="21373"/>
                </a:lnTo>
                <a:lnTo>
                  <a:pt x="0" y="16715"/>
                </a:lnTo>
                <a:lnTo>
                  <a:pt x="5400" y="11602"/>
                </a:lnTo>
                <a:lnTo>
                  <a:pt x="5400" y="14045"/>
                </a:lnTo>
                <a:arcTo wR="21600" hR="7136" stAng="3119449" swAng="-2707704"/>
                <a:lnTo>
                  <a:pt x="20295" y="9579"/>
                </a:lnTo>
                <a:arcTo wR="21600" hR="7136" stAng="-411745" swAng="-4988255"/>
                <a:close/>
              </a:path>
              <a:path fill="darkenLess" w="21600" h="21600">
                <a:moveTo>
                  <a:pt x="0" y="0"/>
                </a:moveTo>
                <a:arcTo wR="21600" hR="7136" stAng="-5400000" swAng="5400000"/>
                <a:lnTo>
                  <a:pt x="21600" y="12021"/>
                </a:lnTo>
                <a:arcTo wR="21600" hR="7136" stAng="0" swAng="-411745"/>
                <a:lnTo>
                  <a:pt x="20295" y="9579"/>
                </a:lnTo>
                <a:arcTo wR="21600" hR="7136" stAng="-411745" swAng="-4988255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urved Left Arrow 8"/>
          <p:cNvSpPr/>
          <p:nvPr/>
        </p:nvSpPr>
        <p:spPr>
          <a:xfrm>
            <a:off x="6858000" y="4952880"/>
            <a:ext cx="1447920" cy="1600200"/>
          </a:xfrm>
          <a:custGeom>
            <a:avLst/>
            <a:gdLst>
              <a:gd name="textAreaLeft" fmla="*/ 193680 w 1447920"/>
              <a:gd name="textAreaRight" fmla="*/ 1254240 w 1447920"/>
              <a:gd name="textAreaTop" fmla="*/ 264240 h 1600200"/>
              <a:gd name="textAreaBottom" fmla="*/ 11548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136" stAng="-5400000" swAng="5400000"/>
                <a:lnTo>
                  <a:pt x="21600" y="12021"/>
                </a:lnTo>
                <a:arcTo wR="21600" hR="7136" stAng="0" swAng="3119449"/>
                <a:lnTo>
                  <a:pt x="5400" y="21373"/>
                </a:lnTo>
                <a:lnTo>
                  <a:pt x="0" y="16715"/>
                </a:lnTo>
                <a:lnTo>
                  <a:pt x="5400" y="11602"/>
                </a:lnTo>
                <a:lnTo>
                  <a:pt x="5400" y="14045"/>
                </a:lnTo>
                <a:arcTo wR="21600" hR="7136" stAng="3119449" swAng="-2707704"/>
                <a:lnTo>
                  <a:pt x="20295" y="9579"/>
                </a:lnTo>
                <a:arcTo wR="21600" hR="7136" stAng="-411745" swAng="-4988255"/>
                <a:close/>
              </a:path>
              <a:path fill="darkenLess" w="21600" h="21600">
                <a:moveTo>
                  <a:pt x="0" y="0"/>
                </a:moveTo>
                <a:arcTo wR="21600" hR="7136" stAng="-5400000" swAng="5400000"/>
                <a:lnTo>
                  <a:pt x="21600" y="12021"/>
                </a:lnTo>
                <a:arcTo wR="21600" hR="7136" stAng="0" swAng="-411745"/>
                <a:lnTo>
                  <a:pt x="20295" y="9579"/>
                </a:lnTo>
                <a:arcTo wR="21600" hR="7136" stAng="-411745" swAng="-4988255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urved Left Arrow 9"/>
          <p:cNvSpPr/>
          <p:nvPr/>
        </p:nvSpPr>
        <p:spPr>
          <a:xfrm rot="7564200">
            <a:off x="612360" y="4916160"/>
            <a:ext cx="1212840" cy="1825560"/>
          </a:xfrm>
          <a:custGeom>
            <a:avLst/>
            <a:gdLst>
              <a:gd name="textAreaLeft" fmla="*/ 162360 w 1212840"/>
              <a:gd name="textAreaRight" fmla="*/ 1050480 w 1212840"/>
              <a:gd name="textAreaTop" fmla="*/ 358200 h 1825560"/>
              <a:gd name="textAreaBottom" fmla="*/ 1378080 h 182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478" stAng="-5400000" swAng="5400000"/>
                <a:lnTo>
                  <a:pt x="21600" y="12066"/>
                </a:lnTo>
                <a:arcTo wR="21600" hR="8478" stAng="0" swAng="3399709"/>
                <a:lnTo>
                  <a:pt x="5400" y="21331"/>
                </a:lnTo>
                <a:lnTo>
                  <a:pt x="0" y="18750"/>
                </a:lnTo>
                <a:lnTo>
                  <a:pt x="5400" y="15631"/>
                </a:lnTo>
                <a:lnTo>
                  <a:pt x="5400" y="16687"/>
                </a:lnTo>
                <a:arcTo wR="21600" hR="8478" stAng="3399709" swAng="-3108270"/>
                <a:lnTo>
                  <a:pt x="21111" y="10272"/>
                </a:lnTo>
                <a:arcTo wR="21600" hR="8478" stAng="-291439" swAng="-5108561"/>
                <a:close/>
              </a:path>
              <a:path fill="darkenLess" w="21600" h="21600">
                <a:moveTo>
                  <a:pt x="0" y="0"/>
                </a:moveTo>
                <a:arcTo wR="21600" hR="8478" stAng="-5400000" swAng="5400000"/>
                <a:lnTo>
                  <a:pt x="21600" y="12066"/>
                </a:lnTo>
                <a:arcTo wR="21600" hR="8478" stAng="0" swAng="-291439"/>
                <a:lnTo>
                  <a:pt x="21111" y="10272"/>
                </a:lnTo>
                <a:arcTo wR="21600" hR="8478" stAng="-291439" swAng="-5108561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0"/>
          <p:cNvSpPr/>
          <p:nvPr/>
        </p:nvSpPr>
        <p:spPr>
          <a:xfrm>
            <a:off x="0" y="1295280"/>
            <a:ext cx="220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pportunities for further reflection on the significance of the genre, and for critic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Straight Arrow Connector 12"/>
          <p:cNvCxnSpPr>
            <a:endCxn id="114" idx="2"/>
          </p:cNvCxnSpPr>
          <p:nvPr/>
        </p:nvCxnSpPr>
        <p:spPr>
          <a:xfrm flipH="1" flipV="1">
            <a:off x="1104480" y="2773080"/>
            <a:ext cx="876960" cy="42768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00:45:54Z</dcterms:created>
  <dc:creator>Inna</dc:creator>
  <dc:description/>
  <dc:language>en-US</dc:language>
  <cp:lastModifiedBy>DEET</cp:lastModifiedBy>
  <dcterms:modified xsi:type="dcterms:W3CDTF">2009-12-02T00:50:55Z</dcterms:modified>
  <cp:revision>171</cp:revision>
  <dc:subject/>
  <dc:title>Slide 1</dc:title>
</cp:coreProperties>
</file>